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B3A-4BC4-4EF4-A330-7985A870A1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3FE-B035-4ED4-AAAD-E2F0D03655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153-EFF5-41FA-BFAE-F9F11EDF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788-637B-48B1-A1D8-AA3159E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01C-CE70-46E8-98ED-4571B2B7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ED5-EED5-42AA-9E11-9B99454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C71-F57D-44E6-A413-0567735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BA4-ADA8-49B8-A038-09EC440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C93-6710-42CE-803C-FBF65B2A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57B-6FDA-49EC-A29F-84DE2B1F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6EF-9E01-4F78-A60E-7858F3FA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978-0B27-4643-9316-EA19345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FD3-92EA-498E-B49D-FD41A55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B03-43CA-464B-A6D1-43BF0201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48484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B59-1D69-4179-A5F4-E1B366A9D6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0120" y="414288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Выполнила: Муравьева Надя, учащаяся 4«В» класса</a:t>
            </a:r>
            <a:r>
              <a:rPr b="0" lang="ru-RU" sz="3200" spc="-1" strike="noStrike">
                <a:solidFill>
                  <a:srgbClr val="00291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914"/>
                </a:solidFill>
                <a:latin typeface="Times New Roman"/>
              </a:rPr>
              <a:t>Руководитель: Кончева С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042920" y="333360"/>
            <a:ext cx="6985080" cy="360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ское научное общество «Начало» учащихся лицея №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203640" y="6165720"/>
            <a:ext cx="2736720" cy="360360"/>
          </a:xfrm>
          <a:prstGeom prst="rect">
            <a:avLst/>
          </a:prstGeom>
          <a:noFill/>
          <a:ln cap="rnd" w="0">
            <a:solidFill>
              <a:srgbClr val="003366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Саяногорск 2010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ordArt 13" descr=""/>
          <p:cNvPicPr/>
          <p:nvPr/>
        </p:nvPicPr>
        <p:blipFill>
          <a:blip r:embed="rId1"/>
          <a:stretch/>
        </p:blipFill>
        <p:spPr>
          <a:xfrm>
            <a:off x="438120" y="1871640"/>
            <a:ext cx="847404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оль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Содержимое 2"/>
          <p:cNvGrpSpPr/>
          <p:nvPr/>
        </p:nvGrpSpPr>
        <p:grpSpPr>
          <a:xfrm>
            <a:off x="407880" y="1962000"/>
            <a:ext cx="8534520" cy="4548240"/>
            <a:chOff x="407880" y="1962000"/>
            <a:chExt cx="8534520" cy="4548240"/>
          </a:xfrm>
        </p:grpSpPr>
        <p:pic>
          <p:nvPicPr>
            <p:cNvPr id="9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07880" y="1962000"/>
              <a:ext cx="8534520" cy="45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28760" y="1981080"/>
              <a:ext cx="8501040" cy="45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еньги – как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средство накоплен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еньги, заработанные сегодня, совсем не обязательно сегодня же и тратить. Их можно использовать для каких-то целей в будущем. Старушка, откладывающая на «черный день»; бизнесмен, помещающий средства в банк под проценты; малыш, бросающий монетку в копилку, - все они используют деньги как средство накопления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оль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Содержимое 2"/>
          <p:cNvGrpSpPr/>
          <p:nvPr/>
        </p:nvGrpSpPr>
        <p:grpSpPr>
          <a:xfrm>
            <a:off x="669960" y="1962000"/>
            <a:ext cx="7804080" cy="4146840"/>
            <a:chOff x="669960" y="1962000"/>
            <a:chExt cx="7804080" cy="4146840"/>
          </a:xfrm>
        </p:grpSpPr>
        <p:pic>
          <p:nvPicPr>
            <p:cNvPr id="10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9960" y="1962000"/>
              <a:ext cx="780408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еньги – как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средство обращен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гда деньги передаются от покупателя к продавцу – это просто и понятно. Но производитель продукции тратит деньги на ее реализацию; потребитель тратит деньги покупая продукцию и зарабатывают их снова, затрачивая свой труд; государство взимает налоги с продавцов и покупателей и делает определенные выплаты населению. Движение денег в виде выплаты, получения, передачи, купли или продажи называется денежным обращение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азновидности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Содержимое 2"/>
          <p:cNvGrpSpPr/>
          <p:nvPr/>
        </p:nvGrpSpPr>
        <p:grpSpPr>
          <a:xfrm>
            <a:off x="669960" y="1962000"/>
            <a:ext cx="7804080" cy="4146840"/>
            <a:chOff x="669960" y="1962000"/>
            <a:chExt cx="7804080" cy="4146840"/>
          </a:xfrm>
        </p:grpSpPr>
        <p:pic>
          <p:nvPicPr>
            <p:cNvPr id="10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9960" y="1962000"/>
              <a:ext cx="780408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c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Наличные деньг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еньги, которыми мы пользуемся ежедневно, доставая при покупке из кошельков, называются наличными. Они существуют в виде бумажных денежных знаков и металлических моне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азновидности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Содержимое 2"/>
          <p:cNvGrpSpPr/>
          <p:nvPr/>
        </p:nvGrpSpPr>
        <p:grpSpPr>
          <a:xfrm>
            <a:off x="669960" y="1962000"/>
            <a:ext cx="7804080" cy="4146840"/>
            <a:chOff x="669960" y="1962000"/>
            <a:chExt cx="7804080" cy="4146840"/>
          </a:xfrm>
        </p:grpSpPr>
        <p:pic>
          <p:nvPicPr>
            <p:cNvPr id="10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9960" y="1962000"/>
              <a:ext cx="780408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c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Безналичные деньг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еньги, которые хранятся на счетах в банках. Согласно правилам их можно переводить на счета в другие банки, организациям или частным лицам не получая их на руки. Расплачиваться в магазинах чеками либо кредитной картой. В этом случае речь идет о безналичных деньгах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Содержимое 2"/>
          <p:cNvGrpSpPr/>
          <p:nvPr/>
        </p:nvGrpSpPr>
        <p:grpSpPr>
          <a:xfrm>
            <a:off x="669960" y="1962000"/>
            <a:ext cx="7804080" cy="4146840"/>
            <a:chOff x="669960" y="1962000"/>
            <a:chExt cx="7804080" cy="4146840"/>
          </a:xfrm>
        </p:grpSpPr>
        <p:pic>
          <p:nvPicPr>
            <p:cNvPr id="11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9960" y="1962000"/>
              <a:ext cx="780408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. Все товары, производимые для потребителей, которыми являемся мы с вами, имеют свою стоимость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. Стоимость товаров выражается в деньгах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. Деньги – это универсальный товар. В них выражается стоимость товаров, ими можно платить, их можно копить, дарить и т.д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. Каждая страна имеет свои деньги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дя на практическом занятии в МДОУ№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E:\фото Нади\1 (31).pn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дя на практическом занятии в МДОУ№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E:\фото Нади\1 (35).png"/>
          <p:cNvPicPr/>
          <p:nvPr/>
        </p:nvPicPr>
        <p:blipFill>
          <a:blip r:embed="rId1"/>
          <a:stretch/>
        </p:blipFill>
        <p:spPr>
          <a:xfrm>
            <a:off x="1857240" y="20001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дя на практическом занятии в МДОУ№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E:\фото Нади\1 (36).pn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дя на практическом занятии в МДОУ№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E:\фото Нади\1 (38).png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769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914"/>
                </a:solidFill>
                <a:latin typeface="Times New Roman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292896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914"/>
                </a:solidFill>
                <a:latin typeface="Times New Roman"/>
              </a:rPr>
              <a:t>Узнать , что такое товар и его стои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914"/>
                </a:solidFill>
                <a:latin typeface="Times New Roman"/>
              </a:rPr>
              <a:t>Узнать, что такое деньги, роль денег и разновидности ден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9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914"/>
                </a:solidFill>
                <a:latin typeface="Times New Roman"/>
              </a:rPr>
              <a:t>Познакомиться с денежными банкнотами разных стр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писание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това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имость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ень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ден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видности ден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к.bmp"/>
          <p:cNvPicPr/>
          <p:nvPr/>
        </p:nvPicPr>
        <p:blipFill>
          <a:blip r:embed="rId1"/>
          <a:stretch/>
        </p:blipFill>
        <p:spPr>
          <a:xfrm>
            <a:off x="5126040" y="2554200"/>
            <a:ext cx="3743280" cy="3979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руг нас очень много различных товаров, которыми мы ежедневно пользуемся, приобретая их в магази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20050828002936"/>
          <p:cNvPicPr/>
          <p:nvPr/>
        </p:nvPicPr>
        <p:blipFill>
          <a:blip r:embed="rId1"/>
          <a:stretch/>
        </p:blipFill>
        <p:spPr>
          <a:xfrm>
            <a:off x="0" y="1916280"/>
            <a:ext cx="3095640" cy="201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1_3b"/>
          <p:cNvPicPr/>
          <p:nvPr/>
        </p:nvPicPr>
        <p:blipFill>
          <a:blip r:embed="rId2"/>
          <a:stretch/>
        </p:blipFill>
        <p:spPr>
          <a:xfrm>
            <a:off x="4788000" y="4653000"/>
            <a:ext cx="3809880" cy="1922400"/>
          </a:xfrm>
          <a:prstGeom prst="rect">
            <a:avLst/>
          </a:prstGeom>
          <a:ln w="0">
            <a:noFill/>
          </a:ln>
        </p:spPr>
      </p:pic>
      <p:pic>
        <p:nvPicPr>
          <p:cNvPr id="60" name="YOGOURT.AVI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2879640" cy="2232360"/>
          </a:xfrm>
          <a:prstGeom prst="rect">
            <a:avLst/>
          </a:prstGeom>
          <a:ln w="0">
            <a:noFill/>
          </a:ln>
        </p:spPr>
      </p:pic>
      <p:pic>
        <p:nvPicPr>
          <p:cNvPr id="61" name="WECKER.AVI" descr=""/>
          <p:cNvPicPr/>
          <p:nvPr/>
        </p:nvPicPr>
        <p:blipFill>
          <a:blip r:embed="rId4"/>
          <a:stretch/>
        </p:blipFill>
        <p:spPr>
          <a:xfrm>
            <a:off x="4859280" y="16286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7"/>
          <p:cNvSpPr/>
          <p:nvPr/>
        </p:nvSpPr>
        <p:spPr>
          <a:xfrm>
            <a:off x="3348000" y="2133720"/>
            <a:ext cx="1490760" cy="718920"/>
          </a:xfrm>
          <a:prstGeom prst="wedgeEllipseCallout">
            <a:avLst>
              <a:gd name="adj1" fmla="val -220074"/>
              <a:gd name="adj2" fmla="val 16169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3357720" y="228600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179280" y="5959440"/>
            <a:ext cx="1224000" cy="898560"/>
          </a:xfrm>
          <a:prstGeom prst="wedgeEllipseCallout">
            <a:avLst>
              <a:gd name="adj1" fmla="val 228208"/>
              <a:gd name="adj2" fmla="val -3091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88360" y="6143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гу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7812000" y="2205000"/>
            <a:ext cx="914400" cy="609480"/>
          </a:xfrm>
          <a:prstGeom prst="wedgeEllipseCallout">
            <a:avLst>
              <a:gd name="adj1" fmla="val -180902"/>
              <a:gd name="adj2" fmla="val 201041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7859520" y="2286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7596360" y="3500280"/>
            <a:ext cx="1346040" cy="649440"/>
          </a:xfrm>
          <a:prstGeom prst="wedgeEllipseCallout">
            <a:avLst>
              <a:gd name="adj1" fmla="val -86912"/>
              <a:gd name="adj2" fmla="val 294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7788600" y="35719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652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 такое товар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Rectangle 3"/>
          <p:cNvGrpSpPr/>
          <p:nvPr/>
        </p:nvGrpSpPr>
        <p:grpSpPr>
          <a:xfrm>
            <a:off x="195120" y="1554120"/>
            <a:ext cx="8674200" cy="5029200"/>
            <a:chOff x="195120" y="1554120"/>
            <a:chExt cx="8674200" cy="5029200"/>
          </a:xfrm>
        </p:grpSpPr>
        <p:pic>
          <p:nvPicPr>
            <p:cNvPr id="72" name="Rectangle 3" descr=""/>
            <p:cNvPicPr/>
            <p:nvPr/>
          </p:nvPicPr>
          <p:blipFill>
            <a:blip r:embed="rId1"/>
            <a:stretch/>
          </p:blipFill>
          <p:spPr>
            <a:xfrm>
              <a:off x="195120" y="1554120"/>
              <a:ext cx="86742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14200" y="1571760"/>
              <a:ext cx="864396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29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914"/>
                  </a:solidFill>
                  <a:latin typeface="Times New Roman"/>
                </a:rPr>
                <a:t>Товар – это продукт, удовлетворяющий какую-либо человеческую потребность и произведенный для продажи либо обме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29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914"/>
                  </a:solidFill>
                  <a:latin typeface="Times New Roman"/>
                </a:rPr>
                <a:t>Условия при которых продукт приобретает свойства товара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29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914"/>
                  </a:solidFill>
                  <a:latin typeface="Times New Roman"/>
                </a:rPr>
                <a:t>1. Должен обладать свойствами, направленными на удовлетворение каких-либо человеческих потреб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914"/>
                  </a:solidFill>
                  <a:latin typeface="Times New Roman"/>
                </a:rPr>
                <a:t>2. Цена, которую запрашивает продавец должна быть посильна для покупател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914"/>
                  </a:solidFill>
                  <a:latin typeface="Times New Roman"/>
                </a:rPr>
                <a:t>3. Изделие должно иметь «товарный вид», т.е. понравиться покупате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Путь создания стоимост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Содержимое 2"/>
          <p:cNvGrpSpPr/>
          <p:nvPr/>
        </p:nvGrpSpPr>
        <p:grpSpPr>
          <a:xfrm>
            <a:off x="658800" y="1957320"/>
            <a:ext cx="7819920" cy="4705560"/>
            <a:chOff x="658800" y="1957320"/>
            <a:chExt cx="7819920" cy="4705560"/>
          </a:xfrm>
        </p:grpSpPr>
        <p:pic>
          <p:nvPicPr>
            <p:cNvPr id="7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58800" y="1957320"/>
              <a:ext cx="7819920" cy="47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5800" y="1981080"/>
              <a:ext cx="7772400" cy="46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оизводство товар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Рекла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Транспортировк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кладирование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Хранени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оставк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умма затрат, производимых на каждой стадии, составляет стоимость товар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Нашивка 3"/>
          <p:cNvSpPr/>
          <p:nvPr/>
        </p:nvSpPr>
        <p:spPr>
          <a:xfrm rot="7561800">
            <a:off x="3454200" y="288252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38" y="0"/>
                </a:lnTo>
                <a:lnTo>
                  <a:pt x="21600" y="10800"/>
                </a:lnTo>
                <a:lnTo>
                  <a:pt x="5538" y="21600"/>
                </a:lnTo>
                <a:lnTo>
                  <a:pt x="0" y="21600"/>
                </a:lnTo>
                <a:lnTo>
                  <a:pt x="16062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трелка углом вверх 5"/>
          <p:cNvSpPr/>
          <p:nvPr/>
        </p:nvSpPr>
        <p:spPr>
          <a:xfrm rot="10800000">
            <a:off x="1785600" y="4000680"/>
            <a:ext cx="3779640" cy="428400"/>
          </a:xfrm>
          <a:prstGeom prst="pie">
            <a:avLst/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Стрелка вниз 6"/>
          <p:cNvSpPr/>
          <p:nvPr/>
        </p:nvSpPr>
        <p:spPr>
          <a:xfrm>
            <a:off x="4429080" y="2500200"/>
            <a:ext cx="4287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ятиугольник 7"/>
          <p:cNvSpPr/>
          <p:nvPr/>
        </p:nvSpPr>
        <p:spPr>
          <a:xfrm rot="440400">
            <a:off x="2473200" y="4943520"/>
            <a:ext cx="4251600" cy="115920"/>
          </a:xfrm>
          <a:custGeom>
            <a:avLst/>
            <a:gdLst>
              <a:gd name="textAreaLeft" fmla="*/ 0 w 4251600"/>
              <a:gd name="textAreaRight" fmla="*/ 4251960 w 42516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06" y="0"/>
                </a:lnTo>
                <a:lnTo>
                  <a:pt x="21600" y="10800"/>
                </a:lnTo>
                <a:lnTo>
                  <a:pt x="21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236fbc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трелка вправо с вырезом 8"/>
          <p:cNvSpPr/>
          <p:nvPr/>
        </p:nvSpPr>
        <p:spPr>
          <a:xfrm rot="768000">
            <a:off x="3719160" y="3517920"/>
            <a:ext cx="2125800" cy="285840"/>
          </a:xfrm>
          <a:custGeom>
            <a:avLst/>
            <a:gdLst>
              <a:gd name="textAreaLeft" fmla="*/ 105120 w 2125800"/>
              <a:gd name="textAreaRight" fmla="*/ 2020680 w 2125800"/>
              <a:gd name="textAreaTop" fmla="*/ 110520 h 285840"/>
              <a:gd name="textAreaBottom" fmla="*/ 1753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8347"/>
                </a:moveTo>
                <a:lnTo>
                  <a:pt x="16890" y="8347"/>
                </a:lnTo>
                <a:lnTo>
                  <a:pt x="16890" y="0"/>
                </a:lnTo>
                <a:lnTo>
                  <a:pt x="21600" y="10800"/>
                </a:lnTo>
                <a:lnTo>
                  <a:pt x="16890" y="21600"/>
                </a:lnTo>
                <a:lnTo>
                  <a:pt x="16890" y="13253"/>
                </a:lnTo>
                <a:lnTo>
                  <a:pt x="0" y="13253"/>
                </a:lnTo>
                <a:lnTo>
                  <a:pt x="1070" y="10800"/>
                </a:lnTo>
                <a:lnTo>
                  <a:pt x="0" y="834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День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Содержимое 2" descr=""/>
          <p:cNvPicPr/>
          <p:nvPr/>
        </p:nvPicPr>
        <p:blipFill>
          <a:blip r:embed="rId1"/>
          <a:stretch/>
        </p:blipFill>
        <p:spPr>
          <a:xfrm>
            <a:off x="360360" y="1554120"/>
            <a:ext cx="8418600" cy="50418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untitled.bmp"/>
          <p:cNvPicPr/>
          <p:nvPr/>
        </p:nvPicPr>
        <p:blipFill>
          <a:blip r:embed="rId2"/>
          <a:stretch/>
        </p:blipFill>
        <p:spPr>
          <a:xfrm>
            <a:off x="6643800" y="2928960"/>
            <a:ext cx="148572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оль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Содержимое 2"/>
          <p:cNvGrpSpPr/>
          <p:nvPr/>
        </p:nvGrpSpPr>
        <p:grpSpPr>
          <a:xfrm>
            <a:off x="669960" y="1962000"/>
            <a:ext cx="7804080" cy="4408560"/>
            <a:chOff x="669960" y="1962000"/>
            <a:chExt cx="7804080" cy="4408560"/>
          </a:xfrm>
        </p:grpSpPr>
        <p:pic>
          <p:nvPicPr>
            <p:cNvPr id="8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69960" y="1962000"/>
              <a:ext cx="780408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5800" y="1981080"/>
              <a:ext cx="7772400" cy="43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еньги – как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мера стоим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Люди давно придумали универсальную меру длины – метр с помощью которой можно все обмерить и сравнить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А как определить, что ценнее - тонна нефти или тонна соли? Тоже с помощью универсальной меры –  меры стоимости, в качестве которой и выступают деньг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Роль дене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одержимое 2"/>
          <p:cNvGrpSpPr/>
          <p:nvPr/>
        </p:nvGrpSpPr>
        <p:grpSpPr>
          <a:xfrm>
            <a:off x="341280" y="1962000"/>
            <a:ext cx="8388360" cy="4146840"/>
            <a:chOff x="341280" y="1962000"/>
            <a:chExt cx="8388360" cy="4146840"/>
          </a:xfrm>
        </p:grpSpPr>
        <p:pic>
          <p:nvPicPr>
            <p:cNvPr id="9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41280" y="1962000"/>
              <a:ext cx="838836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57120" y="1981080"/>
              <a:ext cx="83581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еньги – как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</a:rPr>
                <a:t>платежное средств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Мы нуждаемся в товарах и идем в магазин. Стоимость товара измерена и написана на ценнике, а в кармане у нас универсальное средство обмена – деньги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Мы отдаем их и в этот момент они выступают в качестве платежного средства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1-26T10:35:35Z</dcterms:modified>
  <cp:revision>74</cp:revision>
  <dc:subject/>
  <dc:title>PowerPoint Presentation</dc:title>
</cp:coreProperties>
</file>